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49D-FBBB-4F7B-B694-32DD7055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0B9-CDF5-4B84-B03F-675F40A3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22F-BA42-4049-A1C5-B8F6B740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8E8-7191-4C39-A5BD-CC2C0F27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9EC3-5714-49F7-AAC6-ABE24EE6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0B9-F08C-47AF-97ED-12C1987C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CC0-127D-45BC-B5CF-2D3CBA4B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378-11D5-4DB5-80AC-D2CD7D2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B4FC-021D-4C4C-94C8-10563DEF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2FF-DDEC-477D-8EAC-0DB7B294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137-56DB-426E-833C-8970E43B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F07-FD17-46BA-A710-4878C954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18ED-20F6-4290-AF61-13C599FA0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8:53:02Z</dcterms:created>
  <dc:creator>Dan</dc:creator>
  <dc:description/>
  <dc:language>en-US</dc:language>
  <cp:lastModifiedBy>Chris Yeager</cp:lastModifiedBy>
  <dcterms:modified xsi:type="dcterms:W3CDTF">2004-11-18T19:54:46Z</dcterms:modified>
  <cp:revision>1</cp:revision>
  <dc:subject/>
  <dc:title>Slide 1</dc:title>
</cp:coreProperties>
</file>